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28B5-A579-448D-9BD2-1F9CB2EB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6F7-467B-459E-AB42-73C18472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97B-B7EF-48B7-A5EE-E931D1F77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A2AD-0B6B-412E-BBE2-D5DEBC1B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6B4F-B919-46C7-87B7-B32D3711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283-8342-446D-A398-16A8F0EF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430-6C69-4FAD-AA04-72170C04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C890-7BF8-4B86-8D50-92954F9F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8139-C04A-4887-8B70-628F66A8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33B-9166-4471-BB53-CF61588A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F95-0502-4ABF-8DB4-F70D0D92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9426-E361-4B89-B4D4-D4E1BF2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38D9-39D8-4F0F-AF4A-45A283A502C2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lokTextu 6"/>
          <p:cNvSpPr/>
          <p:nvPr/>
        </p:nvSpPr>
        <p:spPr>
          <a:xfrm>
            <a:off x="247680" y="230040"/>
            <a:ext cx="11680920" cy="6351840"/>
          </a:xfrm>
          <a:prstGeom prst="rect">
            <a:avLst/>
          </a:prstGeom>
          <a:noFill/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ento nájomný bytový dom bol podporený dotácio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Ministerstva dopravy Slovenskej republik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 rámc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rogramu rozvoja bývania</a:t>
            </a:r>
            <a:r>
              <a:rPr b="0" lang="sk-SK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rok podpory: xx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2T06:27:17Z</dcterms:created>
  <dc:creator>Hlaváč, Ondrej</dc:creator>
  <dc:description/>
  <dc:language>en-US</dc:language>
  <cp:lastModifiedBy>Gejdošová, Kamila</cp:lastModifiedBy>
  <dcterms:modified xsi:type="dcterms:W3CDTF">2022-12-21T15:02:42Z</dcterms:modified>
  <cp:revision>8</cp:revision>
  <dc:subject/>
  <dc:title>Prezentácia programu PowerPoint</dc:title>
</cp:coreProperties>
</file>