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FDA-2145-471B-94EE-E154A76B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4EC-5147-4C2D-8B7F-0507EB6C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1CAD-B359-4D9B-962F-1DDF9879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DCA-0F71-490C-975F-82AE6609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319-1215-480E-88F6-256DCED4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0CF-CBFE-4D7B-B54F-2D99230F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D40-F583-456B-BB5E-4EE33CB1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2F1F-4D87-4DDB-9479-7A06393B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9161-41F1-467D-8065-4B99131E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190C-83BE-4821-8AAC-F9D7E4C3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6CA-FCFD-494B-9268-E4CEB56A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2D3A-7089-4B3F-A647-B85F364E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CA9F-DD9A-4C93-B719-FD4996045830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a úverom z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Štátneho fondu rozvoja bývania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1:57Z</dcterms:modified>
  <cp:revision>8</cp:revision>
  <dc:subject/>
  <dc:title>Prezentácia programu PowerPoint</dc:title>
</cp:coreProperties>
</file>