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856-9659-4671-BCE0-9FBB81B6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E46-A84D-44D4-A609-9B2DD529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68E-9B06-4583-9D10-6ABE6889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BBA-3D2F-4121-84AE-8DA47CAA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8D0-D032-4D4B-8B82-35B4518B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36E0-2333-4098-B6ED-D855C509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65A-ADF6-4877-B612-5727EB46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F6B-96B2-4B3F-866D-CEB8DEA7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6A2-CB88-4BF8-A1D3-A47AC51E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983-624E-4911-B5F4-61DE487E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D7DE-4BB3-4F58-8F12-441E75CC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580-8468-4595-9B52-D6BB6918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2D86-DF82-4608-8096-8C97E4DB900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Ministerstva dopravy Slovenskej republik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gramu rozvoja bývania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a úverom z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Štátneho fondu rozvoja býva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Reháková, Veronika</cp:lastModifiedBy>
  <dcterms:modified xsi:type="dcterms:W3CDTF">2025-09-14T14:30:24Z</dcterms:modified>
  <cp:revision>9</cp:revision>
  <dc:subject/>
  <dc:title>Prezentácia programu PowerPoint</dc:title>
</cp:coreProperties>
</file>