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798-7C5B-498E-A902-5AA5D158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9A1-2462-46F6-A72F-EF737042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651-B8CA-43E9-8E2E-7F200710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990-CACB-4F49-BCD3-B121A72F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358-85D2-4DEA-8E90-44E6695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D3E-9566-4169-983E-146CF7AF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FC-F615-4066-8774-EF8968C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314-9379-4C68-BEBD-FA55462C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15F-9798-4CBE-8511-B50A8F7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022-4CDD-4126-8764-58C5629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8D3-4743-4930-9941-DD0C498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2DB-07C0-4861-936D-2368B3C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CEA-055C-433F-A25B-37E90547D41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Ministerstva dopravy Slovenskej republik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gramu rozvoja bývania</a:t>
            </a:r>
            <a:r>
              <a:rPr b="0" lang="sk-SK" sz="38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Reháková, Veronika</cp:lastModifiedBy>
  <dcterms:modified xsi:type="dcterms:W3CDTF">2025-09-14T14:34:37Z</dcterms:modified>
  <cp:revision>10</cp:revision>
  <dc:subject/>
  <dc:title>Prezentácia programu PowerPoint</dc:title>
</cp:coreProperties>
</file>